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401F2-5CB3-4856-985C-B128039AA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1AAAC-7798-48AE-97F3-E26AEE3F1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7C54B-5662-45D0-83CA-95046D64A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46472-2DA9-42B3-9DA2-FDF3EA3C7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47313-460C-4DC3-9061-4E6EBD1A0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C08E0-3133-4D71-A387-649D40B18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395B6-7592-4446-8C18-46E5A158E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5DCC8-6052-4AEC-B2B9-7E8969069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A39B7-5F2B-43AF-897A-9B721DA03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B7801-1AC9-4841-981B-711717079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838DC-DC27-4D02-8F90-ED6366DCB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D6CDA-C8A4-47E8-A45D-8D372CBFC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492F7-27E0-4030-824B-582315A1ED20}" type="slidenum">
              <a:rPr b="0" lang="es-MX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268280"/>
            <a:ext cx="7772400" cy="388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600" spc="-1" strike="noStrike">
                <a:solidFill>
                  <a:srgbClr val="000000"/>
                </a:solidFill>
                <a:latin typeface="Calibri"/>
              </a:rPr>
              <a:t>Use Of Natural Resources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Earth has a wide range of natural resources that are essential for our day-to-day life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ome natural resources such as water, soil and wood were very important for early settlement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ver time we have increasingly relied on these natural resource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r instance the Industrial Revolution only really occurred due to the harnessing of steam power, from burning coal to heat water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s was the beginning of huge increase in the use of the Earth's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natural resource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cars that you and your parents drive rely on petrol, made from oil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f course the biggest, and most important resource, is food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is also the route of some of the major problems in the worl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big problem in the world is that the population is rapidly increasing; it reached 6 billion last yea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these people put pressure on the resources of the world, which in some cases are insufficient, and in some cases are rapidly running out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equently it is vitally important to try to conserve these resources, and find suitable others to replace or supplement the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8T01:34:28Z</dcterms:created>
  <dc:creator>Dell_02</dc:creator>
  <dc:description/>
  <dc:language>en-US</dc:language>
  <cp:lastModifiedBy>Dell_02</cp:lastModifiedBy>
  <dcterms:modified xsi:type="dcterms:W3CDTF">2011-01-28T01:37:30Z</dcterms:modified>
  <cp:revision>1</cp:revision>
  <dc:subject/>
  <dc:title>Use Of Natural Resources</dc:title>
</cp:coreProperties>
</file>